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E1DB-3862-4064-891C-749073510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206F-F389-428B-B8E5-56568846B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B7D6-F517-4A64-AF86-2CFAE9537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65AE-06AA-4A2F-B157-01DFC573B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B1C9-D4FD-40BC-BEB4-54FA759B1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5D41-2506-4888-9E97-8639EE28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909F-B83D-4C2D-87DA-58DF08C81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FBB3-1E27-45FF-8648-41B4B1044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DC62-2874-4D16-9371-CB68FC89D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DBF9-5D22-46AC-B6D8-44051571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1364-3D85-464B-B1CA-63D441FB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EA6A-5D86-418F-B950-6962709A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 Math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0D81B-2178-45E0-9A01-C5149EB5878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11D Applications of linear programming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There are three types of applications that we look at in Further Maths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 Math"/>
              </a:rPr>
              <a:t>Manufacturing problems (Ex 11C)</a:t>
            </a:r>
            <a:endParaRPr b="0" lang="en-US" sz="2800" spc="-1" strike="noStrike">
              <a:solidFill>
                <a:srgbClr val="000000"/>
              </a:solidFill>
              <a:latin typeface="Cambria Math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 Math"/>
              </a:rPr>
              <a:t>Blending problems</a:t>
            </a:r>
            <a:endParaRPr b="0" lang="en-US" sz="2800" spc="-1" strike="noStrike">
              <a:solidFill>
                <a:srgbClr val="000000"/>
              </a:solidFill>
              <a:latin typeface="Cambria Math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 Math"/>
              </a:rPr>
              <a:t>Transportation problems</a:t>
            </a:r>
            <a:endParaRPr b="0" lang="en-US" sz="28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Manufacturing problems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There are two items being made (decision variables x and y)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There are constraints on the number of each item to be made due to time, money, or labour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There is a profit/cost objective function to be maximised/minimised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Blending problems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mbria Math"/>
              </a:rPr>
              <a:t>One item is being made with raw material from three suppliers.</a:t>
            </a:r>
            <a:endParaRPr b="0" lang="en-US" sz="2700" spc="-1" strike="noStrike">
              <a:solidFill>
                <a:srgbClr val="000000"/>
              </a:solidFill>
              <a:latin typeface="Cambria Math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mbria Math"/>
              </a:rPr>
              <a:t>Raw materials are being blended into a single item of a given size, weight, or volume.</a:t>
            </a:r>
            <a:endParaRPr b="0" lang="en-US" sz="2700" spc="-1" strike="noStrike">
              <a:solidFill>
                <a:srgbClr val="000000"/>
              </a:solidFill>
              <a:latin typeface="Cambria Math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mbria Math"/>
              </a:rPr>
              <a:t>The material contains components in varying amounts that, after blending, must meet some minimal (or maximal) standard. There should be at least two components whose blended amount is restricted.</a:t>
            </a:r>
            <a:endParaRPr b="0" lang="en-US" sz="2700" spc="-1" strike="noStrike">
              <a:solidFill>
                <a:srgbClr val="000000"/>
              </a:solidFill>
              <a:latin typeface="Cambria Math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mbria Math"/>
              </a:rPr>
              <a:t>The objective function is based on the differing costs of the material from the three suppliers and is to be minimised.</a:t>
            </a:r>
            <a:endParaRPr b="0" lang="en-US" sz="27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Example: Ex 11D, Q.1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You do Ex 11D, Q.2, 3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Transportation problems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mbria Math"/>
              </a:rPr>
              <a:t>There is a single item being transported from exactly two factories to two distributors.</a:t>
            </a:r>
            <a:endParaRPr b="0" lang="en-US" sz="3000" spc="-1" strike="noStrike">
              <a:solidFill>
                <a:srgbClr val="000000"/>
              </a:solidFill>
              <a:latin typeface="Cambria Math"/>
            </a:endParaRPr>
          </a:p>
          <a:p>
            <a:pPr marL="308520" indent="-308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mbria Math"/>
              </a:rPr>
              <a:t>Each distributor has a given demand which is the controlling influence, while each factory has a given level of production.</a:t>
            </a:r>
            <a:endParaRPr b="0" lang="en-US" sz="3000" spc="-1" strike="noStrike">
              <a:solidFill>
                <a:srgbClr val="000000"/>
              </a:solidFill>
              <a:latin typeface="Cambria Math"/>
            </a:endParaRPr>
          </a:p>
          <a:p>
            <a:pPr marL="308520" indent="-308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mbria Math"/>
              </a:rPr>
              <a:t>The constraints are based on all shipments being non-negative quantities.</a:t>
            </a:r>
            <a:endParaRPr b="0" lang="en-US" sz="3000" spc="-1" strike="noStrike">
              <a:solidFill>
                <a:srgbClr val="000000"/>
              </a:solidFill>
              <a:latin typeface="Cambria Math"/>
            </a:endParaRPr>
          </a:p>
          <a:p>
            <a:pPr marL="308520" indent="-308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mbria Math"/>
              </a:rPr>
              <a:t>The objective function is the transport cost, which must be minimised.</a:t>
            </a:r>
            <a:endParaRPr b="0" lang="en-US" sz="30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Example, Ex 11D, Q.4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You do Ex 11D, Q. 5, 6, 7, 9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9T06:18:42Z</dcterms:created>
  <dc:creator>08843474</dc:creator>
  <dc:description/>
  <dc:language>en-US</dc:language>
  <cp:lastModifiedBy>08843474</cp:lastModifiedBy>
  <dcterms:modified xsi:type="dcterms:W3CDTF">2011-07-19T06:53:36Z</dcterms:modified>
  <cp:revision>2</cp:revision>
  <dc:subject/>
  <dc:title>11D Applications of linear programming</dc:title>
</cp:coreProperties>
</file>